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gif" ContentType="image/gif"/>
  <Override PartName="/ppt/media/image22.jpeg" ContentType="image/jpeg"/>
  <Override PartName="/ppt/media/image37.jpeg" ContentType="image/jpeg"/>
  <Override PartName="/ppt/media/image12.jpeg" ContentType="image/jpeg"/>
  <Override PartName="/ppt/media/image41.gif" ContentType="image/gif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42.gif" ContentType="image/gif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AAD-6BDA-4F08-A946-9E9016B8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0BCA-5162-46B7-A1FB-4D5412E1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124-A274-4706-99BD-1429B72E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318-57F4-4DC6-A8C3-A2CD1FBF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6099-7BE3-4FA5-A526-75A58A2A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79F-03DD-451B-AC2D-BA67438B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00E-9D73-46F0-A48C-1204E082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580-F3C3-420B-828D-E52562FE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624F-2323-4A40-B412-EA15A541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EF2D-20E8-45D0-B3B0-22FBDDD9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8C8-6C6A-4D4C-94A9-274049BA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F6BE-12A2-4E3D-BA21-87823CA8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EA2F-5C38-4550-BF2E-F344DAD11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116000" y="907920"/>
            <a:ext cx="7128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истые вещества и смеси.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особы разделения смесей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03640" y="3500280"/>
            <a:ext cx="3961080" cy="29322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3583080" cy="259848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987640" y="2060640"/>
            <a:ext cx="3465720" cy="23032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p:transition spd="slow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826920" y="907920"/>
          <a:ext cx="7993080" cy="4319280"/>
        </p:xfrm>
        <a:graphic>
          <a:graphicData uri="http://schemas.openxmlformats.org/drawingml/2006/table">
            <a:tbl>
              <a:tblPr/>
              <a:tblGrid>
                <a:gridCol w="2665440"/>
                <a:gridCol w="2519640"/>
                <a:gridCol w="2808000"/>
              </a:tblGrid>
              <a:tr h="14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ер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аха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озду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43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ислор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оч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Желез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4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ес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олок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611280" y="5516640"/>
            <a:ext cx="820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игрышный путь – это чистые веществ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ера – кислород – алюми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18900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ИГРА «КРЕСТИКИ-НОЛ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684360" y="907920"/>
          <a:ext cx="7920000" cy="4537080"/>
        </p:xfrm>
        <a:graphic>
          <a:graphicData uri="http://schemas.openxmlformats.org/drawingml/2006/table">
            <a:tbl>
              <a:tblPr/>
              <a:tblGrid>
                <a:gridCol w="2303280"/>
                <a:gridCol w="2664000"/>
                <a:gridCol w="2952720"/>
              </a:tblGrid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Азо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мета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5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мона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6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ров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рас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Углекислый га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1187280" y="566100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игрышный путь – это смес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метана – лимонад - кро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98200" y="262080"/>
            <a:ext cx="44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ИГРА «КРЕСТИКИ-НОЛ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260280"/>
            <a:ext cx="7451640" cy="4060800"/>
          </a:xfrm>
          <a:prstGeom prst="cloudCallout">
            <a:avLst>
              <a:gd name="adj1" fmla="val 42393"/>
              <a:gd name="adj2" fmla="val 46092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Различия в физических свойствах и других характеристиках веществ позволяют разделять состоящие из них сме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588000" y="3573360"/>
            <a:ext cx="2359080" cy="3284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19280" y="1197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79280" y="2602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Способ разделения смеси: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действием магн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907920"/>
            <a:ext cx="4032360" cy="59500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5950080"/>
              <a:gd name="textAreaBottom" fmla="*/ 5753520 h 5950080"/>
            </a:gdLst>
            <a:ahLst/>
            <a:rect l="textAreaLeft" t="textAreaTop" r="textAreaRight" b="textAreaBottom"/>
            <a:pathLst>
              <a:path w="21600" h="31872">
                <a:moveTo>
                  <a:pt x="3600" y="0"/>
                </a:moveTo>
                <a:arcTo wR="3600" hR="3600" stAng="16200000" swAng="-5400000"/>
                <a:lnTo>
                  <a:pt x="0" y="28272"/>
                </a:lnTo>
                <a:arcTo wR="3600" hR="3600" stAng="10800000" swAng="-5400000"/>
                <a:lnTo>
                  <a:pt x="18000" y="318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907920"/>
            <a:ext cx="4643640" cy="5950080"/>
          </a:xfrm>
          <a:custGeom>
            <a:avLst/>
            <a:gdLst>
              <a:gd name="textAreaLeft" fmla="*/ 226440 w 4643640"/>
              <a:gd name="textAreaRight" fmla="*/ 4417200 w 4643640"/>
              <a:gd name="textAreaTop" fmla="*/ 226440 h 5950080"/>
              <a:gd name="textAreaBottom" fmla="*/ 5723640 h 5950080"/>
            </a:gdLst>
            <a:ahLst/>
            <a:rect l="textAreaLeft" t="textAreaTop" r="textAreaRight" b="textAreaBottom"/>
            <a:pathLst>
              <a:path w="21600" h="27676">
                <a:moveTo>
                  <a:pt x="3600" y="0"/>
                </a:moveTo>
                <a:arcTo wR="3600" hR="3600" stAng="16200000" swAng="-5400000"/>
                <a:lnTo>
                  <a:pt x="0" y="24076"/>
                </a:lnTo>
                <a:arcTo wR="3600" hR="3600" stAng="10800000" swAng="-5400000"/>
                <a:lnTo>
                  <a:pt x="18000" y="27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ме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рошка серы и железных опи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кройте листочком бумаг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верху поднесите магн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храняются ли свой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ры и железа после их смеши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ое различие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войствах серы и желе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спользу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ля разделения этих смес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55640" y="407664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6000" y="189000"/>
            <a:ext cx="82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Способы разделения смесей: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метод фильт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052640"/>
            <a:ext cx="3600360" cy="5472000"/>
          </a:xfrm>
          <a:custGeom>
            <a:avLst/>
            <a:gdLst>
              <a:gd name="textAreaLeft" fmla="*/ 175680 w 3600360"/>
              <a:gd name="textAreaRight" fmla="*/ 3424680 w 3600360"/>
              <a:gd name="textAreaTop" fmla="*/ 175680 h 5472000"/>
              <a:gd name="textAreaBottom" fmla="*/ 5296320 h 5472000"/>
            </a:gdLst>
            <a:ahLst/>
            <a:rect l="textAreaLeft" t="textAreaTop" r="textAreaRight" b="textAreaBottom"/>
            <a:pathLst>
              <a:path w="21600" h="32828">
                <a:moveTo>
                  <a:pt x="3600" y="0"/>
                </a:moveTo>
                <a:arcTo wR="3600" hR="3600" stAng="16200000" swAng="-5400000"/>
                <a:lnTo>
                  <a:pt x="0" y="29228"/>
                </a:lnTo>
                <a:arcTo wR="3600" hR="3600" stAng="10800000" swAng="-5400000"/>
                <a:lnTo>
                  <a:pt x="18000" y="32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56000" y="1125360"/>
            <a:ext cx="4464000" cy="547236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5472360"/>
              <a:gd name="textAreaBottom" fmla="*/ 5254560 h 5472360"/>
            </a:gdLst>
            <a:ahLst/>
            <a:rect l="textAreaLeft" t="textAreaTop" r="textAreaRight" b="textAreaBottom"/>
            <a:pathLst>
              <a:path w="21600" h="26479">
                <a:moveTo>
                  <a:pt x="3600" y="0"/>
                </a:moveTo>
                <a:arcTo wR="3600" hR="3600" stAng="16200000" swAng="-5400000"/>
                <a:lnTo>
                  <a:pt x="0" y="22879"/>
                </a:lnTo>
                <a:arcTo wR="3600" hR="3600" stAng="10800000" swAng="-5400000"/>
                <a:lnTo>
                  <a:pt x="18000" y="26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готовьте смесь воды и м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готовьте фильт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ложите его в ворон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мочите во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ронку с фильтром вставь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колбу или кольцо штат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 стеклянной палоч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ижний конец котор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правьте на стенку ворон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ливайте приготовлен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месь в воронку с фильт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стакане вы получи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чищенный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фильтр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2003400" cy="2668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84360" y="4221000"/>
            <a:ext cx="2725560" cy="2044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41080" y="189000"/>
            <a:ext cx="80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Способы разделения смесей: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метод отста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1052640"/>
            <a:ext cx="3382920" cy="5543280"/>
          </a:xfrm>
          <a:custGeom>
            <a:avLst/>
            <a:gdLst>
              <a:gd name="textAreaLeft" fmla="*/ 164880 w 3382920"/>
              <a:gd name="textAreaRight" fmla="*/ 3218040 w 3382920"/>
              <a:gd name="textAreaTop" fmla="*/ 164880 h 5543280"/>
              <a:gd name="textAreaBottom" fmla="*/ 5378400 h 5543280"/>
            </a:gdLst>
            <a:ahLst/>
            <a:rect l="textAreaLeft" t="textAreaTop" r="textAreaRight" b="textAreaBottom"/>
            <a:pathLst>
              <a:path w="21600" h="35392">
                <a:moveTo>
                  <a:pt x="3600" y="0"/>
                </a:moveTo>
                <a:arcTo wR="3600" hR="3600" stAng="16200000" swAng="-5400000"/>
                <a:lnTo>
                  <a:pt x="0" y="31792"/>
                </a:lnTo>
                <a:arcTo wR="3600" hR="3600" stAng="10800000" swAng="-5400000"/>
                <a:lnTo>
                  <a:pt x="18000" y="353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1052640"/>
            <a:ext cx="3598920" cy="5543280"/>
          </a:xfrm>
          <a:custGeom>
            <a:avLst/>
            <a:gdLst>
              <a:gd name="textAreaLeft" fmla="*/ 175680 w 3598920"/>
              <a:gd name="textAreaRight" fmla="*/ 3423240 w 3598920"/>
              <a:gd name="textAreaTop" fmla="*/ 175680 h 5543280"/>
              <a:gd name="textAreaBottom" fmla="*/ 5367600 h 5543280"/>
            </a:gdLst>
            <a:ahLst/>
            <a:rect l="textAreaLeft" t="textAreaTop" r="textAreaRight" b="textAreaBottom"/>
            <a:pathLst>
              <a:path w="21600" h="33268">
                <a:moveTo>
                  <a:pt x="3600" y="0"/>
                </a:moveTo>
                <a:arcTo wR="3600" hR="3600" stAng="16200000" swAng="-5400000"/>
                <a:lnTo>
                  <a:pt x="0" y="29668"/>
                </a:lnTo>
                <a:arcTo wR="3600" hR="3600" stAng="10800000" swAng="-5400000"/>
                <a:lnTo>
                  <a:pt x="18000" y="332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2592360" cy="2293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042920" y="4005360"/>
            <a:ext cx="2530440" cy="2239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580000" y="162864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80000" y="1413000"/>
            <a:ext cx="316872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меняется для разделения гетерогенных смесей веществ с различной плотн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приме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ензина с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фти с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ска и г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сла и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10280" y="138240"/>
            <a:ext cx="794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Способы разделения смесей: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метод выпар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836640"/>
            <a:ext cx="3527280" cy="6021360"/>
          </a:xfrm>
          <a:custGeom>
            <a:avLst/>
            <a:gdLst>
              <a:gd name="textAreaLeft" fmla="*/ 172080 w 3527280"/>
              <a:gd name="textAreaRight" fmla="*/ 3355200 w 3527280"/>
              <a:gd name="textAreaTop" fmla="*/ 172080 h 6021360"/>
              <a:gd name="textAreaBottom" fmla="*/ 5849280 h 6021360"/>
            </a:gdLst>
            <a:ahLst/>
            <a:rect l="textAreaLeft" t="textAreaTop" r="textAreaRight" b="textAreaBottom"/>
            <a:pathLst>
              <a:path w="21600" h="36871">
                <a:moveTo>
                  <a:pt x="3600" y="0"/>
                </a:moveTo>
                <a:arcTo wR="3600" hR="3600" stAng="16200000" swAng="-5400000"/>
                <a:lnTo>
                  <a:pt x="0" y="33271"/>
                </a:lnTo>
                <a:arcTo wR="3600" hR="3600" stAng="10800000" swAng="-5400000"/>
                <a:lnTo>
                  <a:pt x="18000" y="368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27640" y="836640"/>
            <a:ext cx="4537080" cy="6021360"/>
          </a:xfrm>
          <a:custGeom>
            <a:avLst/>
            <a:gdLst>
              <a:gd name="textAreaLeft" fmla="*/ 221400 w 4537080"/>
              <a:gd name="textAreaRight" fmla="*/ 4315680 w 4537080"/>
              <a:gd name="textAreaTop" fmla="*/ 221400 h 6021360"/>
              <a:gd name="textAreaBottom" fmla="*/ 5799960 h 6021360"/>
            </a:gdLst>
            <a:ahLst/>
            <a:rect l="textAreaLeft" t="textAreaTop" r="textAreaRight" b="textAreaBottom"/>
            <a:pathLst>
              <a:path w="21600" h="28666">
                <a:moveTo>
                  <a:pt x="3600" y="0"/>
                </a:moveTo>
                <a:arcTo wR="3600" hR="3600" stAng="16200000" swAng="-5400000"/>
                <a:lnTo>
                  <a:pt x="0" y="25066"/>
                </a:lnTo>
                <a:arcTo wR="3600" hR="3600" stAng="10800000" swAng="-5400000"/>
                <a:lnTo>
                  <a:pt x="18000" y="286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створите небольшое количе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дного купороса в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лученный раств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лейте в фарфоровую чаш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поставьте ее в кольц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абораторного штат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гревайте чашку пламен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оре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гда в чашке появя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ристаллы со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гревание прекрат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равните полученную со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той, которая была выд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начале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2793960" cy="2095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84360" y="3860640"/>
            <a:ext cx="2908080" cy="2181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260280"/>
            <a:ext cx="7451640" cy="4060800"/>
          </a:xfrm>
          <a:prstGeom prst="cloudCallout">
            <a:avLst>
              <a:gd name="adj1" fmla="val 42393"/>
              <a:gd name="adj2" fmla="val 46092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Вещества, входящие в состав смеси, сохраняют свои св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588000" y="3573360"/>
            <a:ext cx="2359080" cy="3284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619280" y="1197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4" descr="GCH_1Aa05_02Nd"/>
          <p:cNvPicPr/>
          <p:nvPr/>
        </p:nvPicPr>
        <p:blipFill>
          <a:blip r:embed="rId1"/>
          <a:stretch/>
        </p:blipFill>
        <p:spPr>
          <a:xfrm>
            <a:off x="0" y="-15228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46880" y="188640"/>
            <a:ext cx="730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спользование способов разделения смес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 быту и народном хозяйст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2924280"/>
            <a:ext cx="4033800" cy="2376360"/>
          </a:xfrm>
          <a:prstGeom prst="ellipse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перего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или дистилля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20000" y="3716280"/>
            <a:ext cx="792000" cy="1079640"/>
          </a:xfrm>
          <a:custGeom>
            <a:avLst/>
            <a:gdLst>
              <a:gd name="textAreaLeft" fmla="*/ 105840 w 792000"/>
              <a:gd name="textAreaRight" fmla="*/ 686160 w 79200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19280" y="3716280"/>
            <a:ext cx="720720" cy="1152720"/>
          </a:xfrm>
          <a:custGeom>
            <a:avLst/>
            <a:gdLst>
              <a:gd name="textAreaLeft" fmla="*/ 96480 w 720720"/>
              <a:gd name="textAreaRight" fmla="*/ 624240 w 72072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16360" y="242100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780000" y="1125360"/>
            <a:ext cx="2087280" cy="1224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800600"/>
            <a:ext cx="1897200" cy="2057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732720" y="4797360"/>
            <a:ext cx="153504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92360" y="404640"/>
            <a:ext cx="7127640" cy="3168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1197000"/>
            <a:ext cx="417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ЧИСТЫЕ ВЕЩЕСТВА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щества, которые обладают постоянными физическими свой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79640" y="3573360"/>
            <a:ext cx="2359080" cy="3284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046880" y="188640"/>
            <a:ext cx="730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спользование способов разделения смес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 быту и народном хозяйст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1268280"/>
            <a:ext cx="4969080" cy="2592360"/>
          </a:xfrm>
          <a:prstGeom prst="ellipse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выпари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или кристаллиза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2696400">
            <a:off x="7415280" y="2204640"/>
            <a:ext cx="1728720" cy="1368360"/>
          </a:xfrm>
          <a:custGeom>
            <a:avLst/>
            <a:gdLst>
              <a:gd name="textAreaLeft" fmla="*/ 302400 w 1728720"/>
              <a:gd name="textAreaRight" fmla="*/ 1253160 w 1728720"/>
              <a:gd name="textAreaTop" fmla="*/ 183240 h 1368360"/>
              <a:gd name="textAreaBottom" fmla="*/ 11851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1" hR="21600" stAng="10800000" swAng="5400000"/>
                <a:lnTo>
                  <a:pt x="11877" y="0"/>
                </a:lnTo>
                <a:arcTo wR="7561" hR="21600" stAng="-5400000" swAng="268286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90" y="14400"/>
                </a:lnTo>
                <a:arcTo wR="7561" hR="21600" stAng="-2717135" swAng="-2325792"/>
                <a:lnTo>
                  <a:pt x="9719" y="898"/>
                </a:lnTo>
                <a:arcTo wR="7561" hR="21600" stAng="-5757073" swAng="-5042927"/>
                <a:close/>
              </a:path>
              <a:path fill="darkenLess" w="21600" h="21600">
                <a:moveTo>
                  <a:pt x="0" y="21600"/>
                </a:moveTo>
                <a:arcTo wR="7561" hR="21600" stAng="10800000" swAng="5400000"/>
                <a:lnTo>
                  <a:pt x="7561" y="0"/>
                </a:lnTo>
                <a:arcTo wR="7561" hR="21600" stAng="-5400000" swAng="357073"/>
                <a:lnTo>
                  <a:pt x="9719" y="898"/>
                </a:lnTo>
                <a:arcTo wR="7561" hR="21600" stAng="-5757073" swAng="-5042927"/>
                <a:close/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rot="18553200">
            <a:off x="281160" y="2463120"/>
            <a:ext cx="1981440" cy="1033560"/>
          </a:xfrm>
          <a:custGeom>
            <a:avLst/>
            <a:gdLst>
              <a:gd name="textAreaLeft" fmla="*/ 347040 w 1981440"/>
              <a:gd name="textAreaRight" fmla="*/ 1436760 w 1981440"/>
              <a:gd name="textAreaTop" fmla="*/ 138240 h 1033560"/>
              <a:gd name="textAreaBottom" fmla="*/ 895320 h 1033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1" hR="21600" stAng="10800000" swAng="5400000"/>
                <a:lnTo>
                  <a:pt x="11877" y="0"/>
                </a:lnTo>
                <a:arcTo wR="7561" hR="21600" stAng="-5400000" swAng="268286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90" y="14400"/>
                </a:lnTo>
                <a:arcTo wR="7561" hR="21600" stAng="-2717135" swAng="-2325792"/>
                <a:lnTo>
                  <a:pt x="9719" y="898"/>
                </a:lnTo>
                <a:arcTo wR="7561" hR="21600" stAng="-5757073" swAng="-5042927"/>
                <a:close/>
              </a:path>
              <a:path fill="darkenLess" w="21600" h="21600">
                <a:moveTo>
                  <a:pt x="0" y="21600"/>
                </a:moveTo>
                <a:arcTo wR="7561" hR="21600" stAng="10800000" swAng="5400000"/>
                <a:lnTo>
                  <a:pt x="7561" y="0"/>
                </a:lnTo>
                <a:arcTo wR="7561" hR="21600" stAng="-5400000" swAng="357073"/>
                <a:lnTo>
                  <a:pt x="9719" y="898"/>
                </a:lnTo>
                <a:arcTo wR="7561" hR="21600" stAng="-5757073" swAng="-5042927"/>
                <a:close/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11280" y="4005360"/>
            <a:ext cx="2671560" cy="200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012000" y="4005360"/>
            <a:ext cx="2592360" cy="2068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046880" y="188640"/>
            <a:ext cx="730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спользование способов разделения смес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 быту и народном хозяйст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00360" y="2133720"/>
            <a:ext cx="4033800" cy="2376360"/>
          </a:xfrm>
          <a:prstGeom prst="ellipse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фильтро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20042400">
            <a:off x="7236000" y="2420640"/>
            <a:ext cx="817560" cy="1738080"/>
          </a:xfrm>
          <a:custGeom>
            <a:avLst/>
            <a:gdLst>
              <a:gd name="textAreaLeft" fmla="*/ 109440 w 817560"/>
              <a:gd name="textAreaRight" fmla="*/ 708120 w 817560"/>
              <a:gd name="textAreaTop" fmla="*/ 304200 h 1738080"/>
              <a:gd name="textAreaBottom" fmla="*/ 1260360 h 17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411800">
            <a:off x="1403280" y="2276640"/>
            <a:ext cx="720720" cy="1873080"/>
          </a:xfrm>
          <a:custGeom>
            <a:avLst/>
            <a:gdLst>
              <a:gd name="textAreaLeft" fmla="*/ 96480 w 720720"/>
              <a:gd name="textAreaRight" fmla="*/ 624240 w 720720"/>
              <a:gd name="textAreaTop" fmla="*/ 327600 h 1873080"/>
              <a:gd name="textAreaBottom" fmla="*/ 135792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0666800">
            <a:off x="4571640" y="4580640"/>
            <a:ext cx="360360" cy="576360"/>
          </a:xfrm>
          <a:prstGeom prst="upArrow">
            <a:avLst>
              <a:gd name="adj1" fmla="val 100000"/>
              <a:gd name="adj2" fmla="val 159940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635280" y="5275440"/>
            <a:ext cx="2247840" cy="1582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067280" y="1268280"/>
            <a:ext cx="1655640" cy="1243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7093080" y="4149720"/>
            <a:ext cx="1198440" cy="1754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755640" y="4221000"/>
            <a:ext cx="1890720" cy="1713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11280" y="33336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ВТОРИМ ИЗУЧЕННЫЙ МАТЕРИА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1268280"/>
            <a:ext cx="8280360" cy="3384720"/>
          </a:xfrm>
          <a:prstGeom prst="roundRect">
            <a:avLst>
              <a:gd name="adj" fmla="val 16667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Что такое чистое веществ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Какие смеси называются гетерогенными, гомогенн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Приведите примеры газообразных, жидких и твердых смес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Предложите план разделения смесей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) железные стружки, сахар, мел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) растительное масло, соль, глина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) бензин, песок, сах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867280" y="3716280"/>
            <a:ext cx="1992600" cy="2557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258920" y="476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1773360"/>
            <a:ext cx="7777080" cy="1800000"/>
          </a:xfrm>
          <a:prstGeom prst="roundRect">
            <a:avLst>
              <a:gd name="adj" fmla="val 16667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§ 2, упр. 6—9. (с. 1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готовиться к практической работе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с. 52 учебни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771640" y="3757680"/>
            <a:ext cx="304668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332000" y="1052640"/>
            <a:ext cx="691200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219640" y="76500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11640" y="620640"/>
            <a:ext cx="4681440" cy="5761080"/>
          </a:xfrm>
          <a:custGeom>
            <a:avLst/>
            <a:gdLst>
              <a:gd name="textAreaLeft" fmla="*/ 228240 w 4681440"/>
              <a:gd name="textAreaRight" fmla="*/ 4453200 w 4681440"/>
              <a:gd name="textAreaTop" fmla="*/ 228240 h 5761080"/>
              <a:gd name="textAreaBottom" fmla="*/ 5532840 h 5761080"/>
            </a:gdLst>
            <a:ahLst/>
            <a:rect l="textAreaLeft" t="textAreaTop" r="textAreaRight" b="textAreaBottom"/>
            <a:pathLst>
              <a:path w="21600" h="26581">
                <a:moveTo>
                  <a:pt x="3600" y="0"/>
                </a:moveTo>
                <a:arcTo wR="3600" hR="3600" stAng="16200000" swAng="-5400000"/>
                <a:lnTo>
                  <a:pt x="0" y="22981"/>
                </a:lnTo>
                <a:arcTo wR="3600" hR="3600" stAng="10800000" swAng="-5400000"/>
                <a:lnTo>
                  <a:pt x="18000" y="26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МРАМ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то кристалли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орная пород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краска этой горной пор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дивительно разнообраз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лочно-белая, сер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зоват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чудливый узор радует гл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рамор послушен и податли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руках  масте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легко обрабатываетс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красно полируется д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еркального блес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меняется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кульптурных и архитектурных рабо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3343320" cy="3611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168720" cy="247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796000" y="4221000"/>
            <a:ext cx="3174840" cy="2387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987640" y="620640"/>
            <a:ext cx="2973600" cy="4826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333360"/>
            <a:ext cx="5472000" cy="4060800"/>
          </a:xfrm>
          <a:prstGeom prst="cloudCallout">
            <a:avLst>
              <a:gd name="adj1" fmla="val 70625"/>
              <a:gd name="adj2" fmla="val 43157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СМЕС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 системы, состоящие из нескольких компон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443640" y="4076640"/>
            <a:ext cx="2089080" cy="2521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Documents and Settings\Evgeniy\Мои документы\Мои рисунки\ХИМИЯ\жел руда.jpg"/>
          <p:cNvPicPr/>
          <p:nvPr/>
        </p:nvPicPr>
        <p:blipFill>
          <a:blip r:embed="rId2"/>
          <a:stretch/>
        </p:blipFill>
        <p:spPr>
          <a:xfrm>
            <a:off x="611280" y="404640"/>
            <a:ext cx="3564000" cy="2546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932360" y="3575160"/>
            <a:ext cx="4211640" cy="2781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435640" y="476280"/>
            <a:ext cx="3386160" cy="2606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39640" y="3414600"/>
            <a:ext cx="378000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71640" y="260280"/>
            <a:ext cx="7272360" cy="1008000"/>
          </a:xfrm>
          <a:prstGeom prst="roundRect">
            <a:avLst>
              <a:gd name="adj" fmla="val 16667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8000" y="4762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СМЕ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341360"/>
            <a:ext cx="503280" cy="57492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43640" y="1341360"/>
            <a:ext cx="503280" cy="57492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276640"/>
            <a:ext cx="4321440" cy="1439640"/>
          </a:xfrm>
          <a:prstGeom prst="roundRect">
            <a:avLst>
              <a:gd name="adj" fmla="val 16667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22920" y="2276640"/>
            <a:ext cx="4321080" cy="1439640"/>
          </a:xfrm>
          <a:prstGeom prst="roundRect">
            <a:avLst>
              <a:gd name="adj" fmla="val 16667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2565360"/>
            <a:ext cx="367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ОДНОР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ГОМОГЕН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32360" y="2492280"/>
            <a:ext cx="399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ЕОДНОР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ГЕТЕРОГЕН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0920" y="3789360"/>
            <a:ext cx="503280" cy="574560"/>
          </a:xfrm>
          <a:prstGeom prst="downArrow">
            <a:avLst>
              <a:gd name="adj1" fmla="val 50000"/>
              <a:gd name="adj2" fmla="val 28541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16720" y="3860640"/>
            <a:ext cx="503280" cy="57492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4797360"/>
            <a:ext cx="4321440" cy="1727280"/>
          </a:xfrm>
          <a:prstGeom prst="roundRect">
            <a:avLst>
              <a:gd name="adj" fmla="val 16667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месь нескольких вещест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которой ни простым глаз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и даже под микроскоп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льзя обнаруж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астицы этих вещест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22920" y="4797360"/>
            <a:ext cx="4321080" cy="1656000"/>
          </a:xfrm>
          <a:prstGeom prst="roundRect">
            <a:avLst>
              <a:gd name="adj" fmla="val 16667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месь, в которой можно обнаруж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вооруженным глазом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 помощи микроскопа част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вух или более вещест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541600" cy="2541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408720" y="4549680"/>
            <a:ext cx="2735280" cy="2308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340000" y="1844640"/>
            <a:ext cx="2154240" cy="2168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284720" y="3429000"/>
            <a:ext cx="2457360" cy="197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3463920" cy="2435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771640" y="1844640"/>
            <a:ext cx="2737080" cy="1871640"/>
          </a:xfrm>
          <a:prstGeom prst="wedgeRoundRectCallout">
            <a:avLst>
              <a:gd name="adj1" fmla="val -60615"/>
              <a:gd name="adj2" fmla="val 863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59280" y="2780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телефон 04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059280" y="2060640"/>
            <a:ext cx="634680" cy="584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222960" y="189000"/>
            <a:ext cx="2921040" cy="2192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2448000" cy="1865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5867280" y="4508640"/>
            <a:ext cx="2951280" cy="1958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6:52:18Z</dcterms:created>
  <dc:creator>User</dc:creator>
  <dc:description/>
  <dc:language>en-US</dc:language>
  <cp:lastModifiedBy>User</cp:lastModifiedBy>
  <dcterms:modified xsi:type="dcterms:W3CDTF">2009-07-25T07:31:53Z</dcterms:modified>
  <cp:revision>11</cp:revision>
  <dc:subject/>
  <dc:title>Слайд 1</dc:title>
</cp:coreProperties>
</file>